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401-4025-4996-9FCB-C2338F0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638-9B0B-4458-A203-C42EF1C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5CC-2730-408E-8885-BC843102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A33-8BA3-4FF2-8E88-D6AC19D8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668-C49C-4835-A805-23B837ED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34B-4B55-45D6-9DCD-4073C11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991-771E-49AA-919E-6095328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9F1-32C8-427F-8A71-CAE003A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A4-5293-4532-9D3A-5E5ED758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D05-EF3C-4324-8633-3EBAFB5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011-F7BF-4530-A7EA-F7D11A5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53A-BE19-453F-A164-208E2EC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023A-8F51-4A33-B5F9-2D7701D7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2 de marz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que estudiar para los exám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dos mascotas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_ tú mascotas también?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alumnos ______ a la tienda después de las clases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úl y yo ________ a casa de nuestros abuelos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resiones con el infin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infinitivo es cuando un verbo tiene la terminación –AR, -ER o –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veces, el infinitivo esta después de otro verbo o expre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¿Qué 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desea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ustedes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tom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Deb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estudi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aprend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Yo 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quier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com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una hamburgu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33760" y="4114800"/>
            <a:ext cx="228600" cy="3049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362320" y="4114800"/>
            <a:ext cx="3808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295280" y="4723920"/>
            <a:ext cx="304920" cy="3049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028840" y="4648320"/>
            <a:ext cx="228600" cy="4572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29000" y="4648320"/>
            <a:ext cx="685800" cy="3045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191120"/>
            <a:ext cx="14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Verbo conju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1720" y="40831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Verbo infi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28600" y="5105160"/>
            <a:ext cx="1752480" cy="990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" y="4495680"/>
            <a:ext cx="1295280" cy="6098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62520" y="4952520"/>
            <a:ext cx="4038480" cy="12193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486040" y="4572000"/>
            <a:ext cx="2514600" cy="380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as expresiones que usan el infinitivo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ener que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o ha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ir a-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to go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acabar de-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o have just (done some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Teng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com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l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Vo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i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 la cafe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Yo no. 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Aca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ES_tradnl" sz="3200" spc="-1" strike="noStrike">
                <a:solidFill>
                  <a:srgbClr val="99cc00"/>
                </a:solidFill>
                <a:latin typeface="Arial"/>
              </a:rPr>
              <a:t>com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no </a:t>
            </a: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teng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ha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1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4.12-4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6:11:21Z</dcterms:created>
  <dc:creator>Helen Zumaeta</dc:creator>
  <dc:description/>
  <dc:language>en-US</dc:language>
  <cp:lastModifiedBy>Helen Zumaeta</cp:lastModifiedBy>
  <dcterms:modified xsi:type="dcterms:W3CDTF">2011-03-22T20:03:37Z</dcterms:modified>
  <cp:revision>3</cp:revision>
  <dc:subject/>
  <dc:title>Me llamo __________ Clase 8IM La fecha es el 22 de marzo del 2011</dc:title>
</cp:coreProperties>
</file>